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2F4-EA08-4689-BB56-2A6B0899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F02-523C-489A-AC98-839698DC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0EA-6AE9-4932-9332-B19F2015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B6A-3A3A-4B1B-9F57-4A17FCDD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7E9-A032-4FD5-AE92-46E69A00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09F0-93E3-4F13-9377-38E4A81B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ACC-ECAC-492B-908B-FA26A635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ABD3-4AFB-4277-B80C-268D495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F6C7-17EA-4CFD-86E8-A3AF7100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09F2-5268-47B3-8E33-DD2DDDCC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168-B370-4443-9FB3-A4CB50F8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9F7-ECE8-4979-A1F0-A19247D4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A951-9260-425D-A53A-4BFBED3B6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1960" y="1905120"/>
            <a:ext cx="3197880" cy="2287800"/>
            <a:chOff x="381960" y="1905120"/>
            <a:chExt cx="3197880" cy="2287800"/>
          </a:xfrm>
        </p:grpSpPr>
        <p:sp>
          <p:nvSpPr>
            <p:cNvPr id="42" name=""/>
            <p:cNvSpPr/>
            <p:nvPr/>
          </p:nvSpPr>
          <p:spPr>
            <a:xfrm>
              <a:off x="1066680" y="2210040"/>
              <a:ext cx="228600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66680" y="2667240"/>
              <a:ext cx="12952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2361960" y="2210040"/>
              <a:ext cx="9907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066680" y="221004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1960" y="25146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1,y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82160" y="391644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2,y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32920" y="190512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3,y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81240" y="2224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97080" y="3367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91160" y="3353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981040" y="1965240"/>
            <a:ext cx="2780640" cy="2227320"/>
            <a:chOff x="5981040" y="1965240"/>
            <a:chExt cx="2780640" cy="2227320"/>
          </a:xfrm>
        </p:grpSpPr>
        <p:sp>
          <p:nvSpPr>
            <p:cNvPr id="53" name=""/>
            <p:cNvSpPr/>
            <p:nvPr/>
          </p:nvSpPr>
          <p:spPr>
            <a:xfrm>
              <a:off x="6324480" y="2239920"/>
              <a:ext cx="182880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324480" y="323028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324480" y="2239920"/>
              <a:ext cx="99072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7315200" y="2239560"/>
              <a:ext cx="8380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8920" y="250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98240" y="3473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68080" y="2330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971760" y="196524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3,y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81040" y="391608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2,y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14760" y="3078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x4,y4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08040" y="569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04920" y="152280"/>
            <a:ext cx="3124080" cy="1676520"/>
            <a:chOff x="304920" y="152280"/>
            <a:chExt cx="3124080" cy="1676520"/>
          </a:xfrm>
        </p:grpSpPr>
        <p:sp>
          <p:nvSpPr>
            <p:cNvPr id="65" name=""/>
            <p:cNvSpPr/>
            <p:nvPr/>
          </p:nvSpPr>
          <p:spPr>
            <a:xfrm>
              <a:off x="304920" y="609480"/>
              <a:ext cx="1295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04920" y="152280"/>
              <a:ext cx="2286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600200" y="1143000"/>
              <a:ext cx="18288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2590920" y="1522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21480" y="609480"/>
              <a:ext cx="15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ea: find 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105800" y="457200"/>
            <a:ext cx="35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into two tri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cribe the triangle with a 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 area of rect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ree right triangles created by i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4343400"/>
            <a:ext cx="45720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tangle_area_1 = (max(x(1-3)) – min(x(1-3))) * (max(y(1-3)) – min(y(1-3)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1_area = 0.5 * abs(x3 – x1) * abs(y3 – y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2_area = 0.5 * abs(x2 – x1) * abs(y2 – y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3_area = 0.5 * abs(x3 – x2) * abs(y3 – y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rea1 = rectangle_area_1 - Triangle1_area – Triangle2_area – Triangle2_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343400"/>
            <a:ext cx="4419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ctangle_area_2 = (max(x(2-4)) – min(x(2-4))) * (max(y(2-4)) – min(y(2-4))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4_area = 0.5 * abs(x3 – x2) * abs(y3 – y2) = Triangle3_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5_area = 0.5 * abs(x4 – x2) * abs(y4 – y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ngle5_area = 0.5 * abs(x4 – x3) * abs(y4 – y3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area2 = rectangle_area_2 – Triangle4_area – Triangle5_area – Triangle6_a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69560" y="582768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alateral area = triarea1 +triare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3:38:07Z</dcterms:created>
  <dc:creator>Sheldon D. Stokes</dc:creator>
  <dc:description/>
  <dc:language>en-US</dc:language>
  <cp:lastModifiedBy>Sheldon D. Stokes</cp:lastModifiedBy>
  <dcterms:modified xsi:type="dcterms:W3CDTF">2005-05-11T13:46:47Z</dcterms:modified>
  <cp:revision>4</cp:revision>
  <dc:subject/>
  <dc:title>Slide 1</dc:title>
</cp:coreProperties>
</file>