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410-2918-42DE-A0D8-F0A966A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16A-F24C-4900-A6D3-667A6B5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B42-6338-4EF3-BE72-ABB4C4F0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FBE-BB5C-4C45-937F-1D071158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B95-A795-455E-B53A-B486A5BA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5B0-EC1F-4FA4-86AE-3441E3C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716-6E6C-4672-9CED-3ABC856F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086-915D-487D-B013-73DF5D1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74F-C434-4469-8669-CF0FC40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287-0AA2-4FC7-A218-57B7BD3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21B-3270-4867-8A91-AE07462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33C-5D60-4390-894B-982C413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FE3-C178-4A7E-AD75-5954022C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858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6002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6002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59092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812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45720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59092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63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762120"/>
            <a:ext cx="2361960" cy="2057400"/>
          </a:xfrm>
          <a:prstGeom prst="flowChartProcess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, Dro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,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04920"/>
            <a:ext cx="419112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6680" y="6245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486400"/>
            <a:ext cx="304920" cy="30492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038480" y="1828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0199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534520" y="380880"/>
            <a:ext cx="0" cy="563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705720" y="380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236232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209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1:11:46Z</dcterms:created>
  <dc:creator>Sheldon D. Stokes</dc:creator>
  <dc:description/>
  <dc:language>en-US</dc:language>
  <cp:lastModifiedBy>Sheldon D. Stokes</cp:lastModifiedBy>
  <dcterms:modified xsi:type="dcterms:W3CDTF">2005-09-07T12:44:45Z</dcterms:modified>
  <cp:revision>4</cp:revision>
  <dc:subject/>
  <dc:title>PowerPoint Presentation</dc:title>
</cp:coreProperties>
</file>